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pent most of his life trying to prove the theories of Coperni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effectively use th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man Catholic Philoso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and humans are the center of all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retrograde mo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difference between heliocentric and geocentr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as Ptolemy’s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as Galileo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eek philosop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lieved the Earth wa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was surrounded by water, air, and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n i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measure the distance to the sun and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VOLUTION is the cycle in which a planet orbits the sun (one y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maginary line on which an object ro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’s axis goes through its center from the North to the South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rotation different from rev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greed with ARISTOTLE’S 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trograde motion is the idea that a planet moves back and forth in a looping motion; “Mar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anded the ideas of Aristarc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ntified the positions of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52B-F455-4517-B7AF-6D74E248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182-5D58-4743-A248-B46029F7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E60-071A-4FD0-A377-F8D16DCB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B43-D93F-4C31-9D4E-1B5BB68A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335C-2B34-49A6-A9F0-F1D0F634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B994-516C-47C2-942B-74586187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9F5D-C180-499D-A0E5-4FA83283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5BFC-357E-483B-A5CC-F5200E1C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7C2B-73F8-4E17-9233-72078AAE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E7FE-652B-41BD-A635-0E385141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6E83-3EDA-412E-A59C-E03D641F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602-D311-49E6-B523-BC9F11A9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EE6B-F3DE-4194-952D-F92194A8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1418-D966-4F92-B5D5-F2DC1400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B96B-F504-49F2-B2F0-2B08DA4A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ACDA-63D7-47B0-8A92-F41D73EF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212C-2AE9-4E73-B022-FDE0067D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32B-D72D-4C41-98DD-294084DE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605-205B-4D4C-8A9E-5BB31662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4E9-0D78-4906-AFF0-2105F213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0D6-257A-418E-ACD8-C01EFA0F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EF0-AEB0-4730-9EE8-52650957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FAF-E8C8-454A-9348-75879545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7DF-FE1A-405D-9804-A196A30D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1BFB-E39A-4E19-9E68-0463515E95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4D4C-1EA6-408D-9CC7-638A7CA3F1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Astronomy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ncient Philosoph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Galileo (1564-164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ent most of his life trying to prove the theories of Copernic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effectively use the telescop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ge 43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Roman Catholic Philosop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and humans are the center of all thin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retrograde mo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difference between heliocentric and geocentric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was Ptolemy’s theor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as Galileo important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 (384-322) B.C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reek philosopher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Believed the Earth wa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was surrounded by water, air, and fi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 (3rd Century B.C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un i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measure the distance to the sun and mo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VOLUTION is the cycle in which a planet orbits the sun (one year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What is an axi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maginary line on which an object rot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’s axis goes through its center from the North to the South Po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ow is rotation different from revolu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Ptolemy (2nd century A.D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greed with ARISTOTLE’S 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trograde motion is the idea that a planet moves back and forth in a looping motion; “Mars” (p.434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pernicus (1473-1543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xpanded the ideas of Aristarch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dentified the positions of the plane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22:06:38Z</dcterms:created>
  <dc:creator>Newport News</dc:creator>
  <dc:description/>
  <dc:language>en-US</dc:language>
  <cp:lastModifiedBy>Legion</cp:lastModifiedBy>
  <dcterms:modified xsi:type="dcterms:W3CDTF">2017-01-26T09:03:56Z</dcterms:modified>
  <cp:revision>5</cp:revision>
  <dc:subject/>
  <dc:title>Astronomy </dc:title>
</cp:coreProperties>
</file>